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3.wmf" ContentType="image/x-wmf"/>
  <Override PartName="/ppt/media/image4.jpeg" ContentType="image/jpeg"/>
  <Override PartName="/ppt/media/image6.gif" ContentType="image/gi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C7E-BF88-4C5F-9855-B7577A88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69A-0898-4BE8-81D9-FB48B85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9EA-BBD7-4CF5-9A28-C8353B5D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7FC-C0BF-400A-AB9C-0653253D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785-87B0-413F-84DE-05E509D5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2FF-0CD0-461B-BA65-B8D5C433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6AA-D7F2-415F-979E-414F320C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9C4-4600-4765-9088-3D0512C9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083-BA4E-4D56-B2D3-60FCECD0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0DC-63B8-46B9-BF19-4A8A564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7D8-C212-45FC-83D8-891D153F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769-43D8-4244-9E95-843CE31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E46A-ADDE-40B0-981A-C7925BA1B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1628640"/>
            <a:ext cx="4753080" cy="14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964ac4">
                        <a:alpha val="35294"/>
                      </a:srgbClr>
                    </a:gs>
                    <a:gs pos="100000">
                      <a:srgbClr val="803fa7"/>
                    </a:gs>
                  </a:gsLst>
                  <a:lin ang="5400000"/>
                </a:gradFill>
                <a:latin typeface="Book Antiqua"/>
              </a:rPr>
              <a:t>How to keep the sewage clean</a:t>
            </a: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964ac4">
                      <a:alpha val="35294"/>
                    </a:srgbClr>
                  </a:gs>
                  <a:gs pos="100000">
                    <a:srgbClr val="803fa7"/>
                  </a:gs>
                </a:gsLst>
                <a:lin ang="5400000"/>
              </a:gradFill>
              <a:latin typeface="Book Antiqua"/>
              <a:ea typeface="Book Antiqu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1908360" cy="1911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380360" y="765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5229360"/>
            <a:ext cx="2246400" cy="12715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25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00000">
                                      <p:cBhvr>
                                        <p:cTn id="3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403884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bad things enters the sea it can kill the animal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33498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2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1065 -0.018 -0.02131 -0.023 -0.02131 C -0.054 -0.02131 -0.086 0.14516 -0.086 0.31164 C -0.086 0.22774 -0.102 0.14517 -0.117 0.14517 C -0.133 0.14517 -0.148 0.22907 -0.148 0.31164 C -0.148 0.27035 -0.156 0.22774 -0.164 0.22774 C -0.172 0.22774 -0.18 0.26903 -0.18 0.31164 C -0.18 0.29033 -0.184 0.27035 -0.188 0.27035 C -0.192 0.27035 -0.196 0.29166 -0.196 0.31164 C -0.196 0.30099 -0.198 0.29033 -0.2 0.29033 C -0.201 0.29033 -0.204 0.30098 -0.204 0.31164 C -0.204 0.30631 -0.205 0.30099 -0.206 0.30099 C -0.206 0.29966 -0.208 0.30632 -0.208 0.31164 C -0.208 0.30898 -0.208 0.30631 -0.209 0.30631 C -0.209 0.30764 -0.21 0.30897 -0.21 0.31164 C -0.21 0.31031 -0.21 0.30898 -0.21 0.30764 C -0.211 0.30764 -0.211 0.30897 -0.211 0.3103 C -0.212 0.3103 -0.212 0.30897 -0.212 0.30764 C -0.213 0.30764 -0.213 0.30897 -0.213 0.3103 E">
                                      <p:cBhvr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cc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also can poison people who eat the shellfish which live in the poison river so don’t put pollute th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732720" y="907920"/>
            <a:ext cx="1842840" cy="1741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27640" y="4365720"/>
            <a:ext cx="2376360" cy="1800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t pollutes the river like the news on 1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of May 2009 that poisons enter Parramatta River so don’t just let the poisons d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72360" y="476280"/>
            <a:ext cx="133956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724360" y="3432240"/>
            <a:ext cx="2868840" cy="3425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2:56:57Z</dcterms:created>
  <dc:creator>nicholais.lang</dc:creator>
  <dc:description/>
  <dc:language>en-US</dc:language>
  <cp:lastModifiedBy>nicholais.lang</cp:lastModifiedBy>
  <dcterms:modified xsi:type="dcterms:W3CDTF">2009-05-21T03:39:13Z</dcterms:modified>
  <cp:revision>3</cp:revision>
  <dc:subject/>
  <dc:title>Slide 1</dc:title>
</cp:coreProperties>
</file>